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9D3-641C-423F-A936-9A389E1D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8D6-F26C-4559-BAD1-3B096E5A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EEA-DD03-4B57-9504-695EA8C0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A40-DEDA-4F4E-B4FD-41A9DAD1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1A3-1F1F-454B-B300-7325BFD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AC8-FCD3-44C3-BCBA-607167E3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C48-0DD0-4309-B875-8615BC8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F4A-7582-4027-AB58-1BE4A239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E18-15E7-430A-AF3D-A8FC0A66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394-19CC-4E98-B2DF-07F471D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376-0208-4EBC-8A26-1CAB6EA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B86-A9BB-4114-B1D3-02D61E5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4F1-1423-44BE-AF85-A78976999C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6165720"/>
            <a:ext cx="4535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558972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2-23T21:01:33Z</dcterms:modified>
  <cp:revision>758</cp:revision>
  <dc:subject/>
  <dc:title>Diapositiva 1</dc:title>
</cp:coreProperties>
</file>